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654-E9F5-44AE-A7E3-73E66BE3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AA8-B5FE-4C90-87B1-A7561C07D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ll our jobs to promote languages in school and wider community – get involv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etwork with colleagues in all s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ke connections with foreign government a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05FF-41AC-4FF9-AF0A-861DDCC1F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AIS Pl is accred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4E0E-93FB-448F-B64B-743E5DCFCD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5F25-5604-47D8-9BE1-D1A7E97C0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/>
              <a:ahLst/>
              <a:rect l="l" t="t" r="r" b="b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/>
              <a:ahLst/>
              <a:rect l="l" t="t" r="r" b="b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/>
              <a:ahLst/>
              <a:rect l="l" t="t" r="r" b="b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/>
              <a:ahLst/>
              <a:rect l="l" t="t" r="r" b="b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/>
              <a:ahLst/>
              <a:rect l="l" t="t" r="r" b="b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/>
              <a:ahLst/>
              <a:rect l="l" t="t" r="r" b="b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/>
              <a:ahLst/>
              <a:rect l="l" t="t" r="r" b="b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/>
              <a:ahLst/>
              <a:rect l="l" t="t" r="r" b="b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/>
              <a:ahLst/>
              <a:rect l="l" t="t" r="r" b="b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/>
              <a:ahLst/>
              <a:rect l="l" t="t" r="r" b="b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/>
              <a:ahLst/>
              <a:rect l="l" t="t" r="r" b="b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/>
              <a:ahLst/>
              <a:rect l="l" t="t" r="r" b="b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/>
              <a:ahLst/>
              <a:rect l="l" t="t" r="r" b="b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/>
              <a:ahLst/>
              <a:rect l="l" t="t" r="r" b="b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/>
              <a:ahLst/>
              <a:rect l="l" t="t" r="r" b="b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/>
              <a:ahLst/>
              <a:rect l="l" t="t" r="r" b="b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/>
              <a:ahLst/>
              <a:rect l="l" t="t" r="r" b="b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/>
              <a:ahLst/>
              <a:rect l="l" t="t" r="r" b="b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/>
              <a:ahLst/>
              <a:rect l="l" t="t" r="r" b="b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/>
              <a:ahLst/>
              <a:rect l="l" t="t" r="r" b="b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/>
              <a:ahLst/>
              <a:rect l="l" t="t" r="r" b="b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/>
              <a:ahLst/>
              <a:rect l="l" t="t" r="r" b="b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/>
              <a:ahLst/>
              <a:rect l="l" t="t" r="r" b="b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/>
              <a:ahLst/>
              <a:rect l="l" t="t" r="r" b="b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/>
              <a:ahLst/>
              <a:rect l="l" t="t" r="r" b="b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/>
              <a:ahLst/>
              <a:rect l="l" t="t" r="r" b="b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/>
              <a:ahLst/>
              <a:rect l="l" t="t" r="r" b="b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/>
              <a:ahLst/>
              <a:rect l="l" t="t" r="r" b="b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/>
              <a:ahLst/>
              <a:rect l="l" t="t" r="r" b="b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/>
              <a:ahLst/>
              <a:rect l="l" t="t" r="r" b="b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/>
              <a:ahLst/>
              <a:rect l="l" t="t" r="r" b="b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/>
              <a:ahLst/>
              <a:rect l="l" t="t" r="r" b="b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/>
              <a:ahLst/>
              <a:rect l="l" t="t" r="r" b="b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/>
              <a:ahLst/>
              <a:rect l="l" t="t" r="r" b="b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/>
              <a:ahLst/>
              <a:rect l="l" t="t" r="r" b="b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/>
              <a:ahLst/>
              <a:rect l="l" t="t" r="r" b="b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/>
              <a:ahLst/>
              <a:rect l="l" t="t" r="r" b="b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/>
              <a:ahLst/>
              <a:rect l="l" t="t" r="r" b="b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/>
              <a:ahLst/>
              <a:rect l="l" t="t" r="r" b="b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/>
              <a:ahLst/>
              <a:rect l="l" t="t" r="r" b="b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/>
              <a:ahLst/>
              <a:rect l="l" t="t" r="r" b="b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/>
              <a:ahLst/>
              <a:rect l="l" t="t" r="r" b="b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/>
              <a:ahLst/>
              <a:rect l="l" t="t" r="r" b="b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/>
              <a:ahLst/>
              <a:rect l="l" t="t" r="r" b="b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/>
              <a:ahLst/>
              <a:rect l="l" t="t" r="r" b="b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/>
              <a:ahLst/>
              <a:rect l="l" t="t" r="r" b="b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/>
              <a:ahLst/>
              <a:rect l="l" t="t" r="r" b="b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/>
              <a:ahLst/>
              <a:rect l="l" t="t" r="r" b="b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/>
              <a:ahLst/>
              <a:rect l="l" t="t" r="r" b="b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/>
              <a:ahLst/>
              <a:rect l="l" t="t" r="r" b="b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/>
              <a:ahLst/>
              <a:rect l="l" t="t" r="r" b="b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/>
              <a:ahLst/>
              <a:rect l="l" t="t" r="r" b="b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/>
              <a:ahLst/>
              <a:rect l="l" t="t" r="r" b="b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aisnsw.edu.a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anguages in the NSW independent sector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280" y="3692160"/>
            <a:ext cx="705636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23rd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ryl Wah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guages Consultant K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Kiyomizu 1.JPG"/>
          <p:cNvPicPr/>
          <p:nvPr/>
        </p:nvPicPr>
        <p:blipFill>
          <a:blip r:embed="rId1"/>
          <a:stretch/>
        </p:blipFill>
        <p:spPr>
          <a:xfrm>
            <a:off x="0" y="364500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Users\Merryl\Pictures\Photo Stream\My Photo Stream\Indonesia Jan 2013\DSCN1343.JPG"/>
          <p:cNvPicPr/>
          <p:nvPr/>
        </p:nvPicPr>
        <p:blipFill>
          <a:blip r:embed="rId2"/>
          <a:stretch/>
        </p:blipFill>
        <p:spPr>
          <a:xfrm>
            <a:off x="5580000" y="260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Users\Merryl\Pictures\London and Paris\IMG_0407.jpg"/>
          <p:cNvPicPr/>
          <p:nvPr/>
        </p:nvPicPr>
        <p:blipFill>
          <a:blip r:embed="rId3"/>
          <a:stretch/>
        </p:blipFill>
        <p:spPr>
          <a:xfrm>
            <a:off x="2340000" y="3645000"/>
            <a:ext cx="21938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Issues of the moment….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cc"/>
                </a:solidFill>
                <a:latin typeface="Comic Sans MS"/>
              </a:rPr>
              <a:t>What is exci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ploring iPads as a wonderful tool for creating meaningful speaking and writing tasks in the Languages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cc"/>
                </a:solidFill>
                <a:latin typeface="Comic Sans MS"/>
              </a:rPr>
              <a:t>What is cru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searching models of best practice in Language program delivery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cc"/>
                </a:solidFill>
                <a:latin typeface="Comic Sans MS"/>
              </a:rPr>
              <a:t>What is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dvocating for Languages as a viable and valuable KLA in all 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640" y="134172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Looking forward to working with you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908000" y="4149720"/>
            <a:ext cx="60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Merryl Wahlin mwahlin@aisnsw.edu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A snapshot: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1763640" y="1052640"/>
            <a:ext cx="7129440" cy="511308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487 schools – ACT and N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Faith- based, Montessori, Steiner, language-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Big, small, wealthy, not so w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Pre-school, K-6, 7-12, K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360 languag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Aboriginal language, Armenian, Auslan, Chinese, French, German, Greek, Hebrew, Indonesian, Italian, Japanese, Korean, Latin, Russian, Serbian, Spanish, Turk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Support for Languages: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Languages Consultants - Our role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nduct in-school consultancies (programming, assessment, class observation &amp; feed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vide Professional Lear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anage Commonwealth and State funding for Language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vide advice to support schools in implementing Languages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aintain website, wiki fo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https://www.aisnsw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and more…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87280" y="1196640"/>
            <a:ext cx="7491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dvocate fo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present Languages in the NSW independent sector – ACARA, BOSTES, AEF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llaborate closely with colleagues from DEC and C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iaise with foreign government organisations (Consulates, AF,GI,JF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cc"/>
                </a:solidFill>
                <a:latin typeface="Comic Sans MS"/>
              </a:rPr>
              <a:t>Collabor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Catherine’s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C:\Users\Merryl\Pictures\Photo Stream\My Photo Stream\InternationalDay\DSCN1164.JPG"/>
          <p:cNvPicPr/>
          <p:nvPr/>
        </p:nvPicPr>
        <p:blipFill>
          <a:blip r:embed="rId1"/>
          <a:stretch/>
        </p:blipFill>
        <p:spPr>
          <a:xfrm>
            <a:off x="5940360" y="4106880"/>
            <a:ext cx="23335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Stay informed and up-to date…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87280" y="1483920"/>
            <a:ext cx="7491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Jan 2015 – AIS Professional learning program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erman Day - 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iPads in Languages  - April &amp;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Technology in Languages -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Great ideas … - 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 Chinese Day – 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 Peter’s Anglican College, Broul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29592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Comic Sans MS"/>
              </a:rPr>
              <a:t>2015 PL courses…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87280" y="1341360"/>
            <a:ext cx="7491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Using film in Languages -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ifferentiation in Languages (online) – 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ffective programming (online) –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eadership in Languages –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S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 Peter’s Anglican Primary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5076720" y="3573360"/>
            <a:ext cx="34988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Modern Language Teachers’ Association of NSW (MLTA)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 MLTA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The peak body representing all languages, al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ur voice on state and n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6640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MLTA member benefit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 Part of a strong professional learnin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 Endorsed provider of 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tudent compe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chola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unding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Date for your dia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20.3.15 – MLTA Annu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LTA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273e6f"/>
                </a:solidFill>
                <a:latin typeface="Comic Sans MS"/>
              </a:rPr>
              <a:t>Resources</a:t>
            </a:r>
            <a:endParaRPr b="1" lang="en-US" sz="3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87280" y="1557000"/>
            <a:ext cx="7491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S Languages webs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IS Languages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C Languages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ffs Harbour Christian Community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36003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4-10-22T05:29:45Z</dcterms:modified>
  <cp:revision>223</cp:revision>
  <dc:subject/>
  <dc:title>Slide 1</dc:title>
</cp:coreProperties>
</file>